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985-81CB-4374-8D50-E36BDC8A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F9A-764A-4A4D-9627-16DA52DE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342-6649-45FC-A120-5D327A5E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D27-3293-4B66-85BF-341EE65C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DFE-138D-47F5-AEF5-27356CF8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5DE-A3AD-4400-9860-9C0A0C9C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8B5-9733-4BB6-A82F-0A6B0CF2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B00-43CC-455B-8693-9378F72E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3D5-6B44-4741-B6A4-BA2C87D3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3BB-9AD3-4901-A8ED-6F90C3D3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878-AE49-4714-9ACB-FDA83585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663-9BD2-4479-85A4-A40004A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2406-E1B1-427B-87A7-7612B799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R 606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ecurity Administrators and Digital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1120" y="51811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to PRS on June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 Steve Grendel -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606 was initiated based on audit findings, audit recommendations, NERC 1200 and security best prac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Recommendation:  “Highly recommend…     …ensure only authorized individuals or organizations have been issued digital Certificates.  All others should have their access revok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hat digital certificate users have passed appropriate screening requirements and currently have a need for the certific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and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12 System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Requirement - The entity performing the reliability authority, balancing authority, interchange authority, transmission service provider, transmission operator, generator, or load-serving entity function shall establish systems management policies and procedures for configuring and securing critical cyber assets. At a minimum, these policies and procedures shall addr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. The authorization and periodic review of computer accounts and access righ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. The disabling of unauthorized, invalidated, expired, or unused computer accounts and physical access righ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77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2 Security of third part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 Access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2.1 User regis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) immediately removing access rights of users who have changed jobs or left the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2.4 Review of user access rights  - “management should conduct a formal process at regular intervals to review users’ access ri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R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icates are not issued to fe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icates are not issued to individuals on terrorist watch l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llation of certificates when employee leaves company or specific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s are performed by market participants on an annual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station by officer of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0:06:06Z</dcterms:created>
  <dc:creator>sgrendel</dc:creator>
  <dc:description/>
  <dc:language>en-US</dc:language>
  <cp:lastModifiedBy>sgrendel</cp:lastModifiedBy>
  <dcterms:modified xsi:type="dcterms:W3CDTF">2005-06-22T23:30:22Z</dcterms:modified>
  <cp:revision>2</cp:revision>
  <dc:subject/>
  <dc:title>Digital Certificate Audit</dc:title>
</cp:coreProperties>
</file>